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3EA-48C5-447F-94B8-181DF46E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A60-562C-4AF1-B848-F11CEE94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2DD-9AE1-4E6C-B409-3DEB961E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572-A922-46A4-987D-EF77035B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F25-C711-430F-BB3D-D40676C1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532-12F7-4850-BD85-9B89D70E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5C0-6707-429E-AC1B-18D353D5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A8B-AE4B-4E50-89CC-3DC0ABEA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56C-99CC-4960-AA6C-AA700C7E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F4C-82AF-4999-942F-BE4F9A7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F29-CE07-4214-8BE6-B0D5307B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AFB-07BC-4FBF-830F-FB4A534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71EC-317F-4A8A-9E79-827D7F523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4448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рмула П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зволит вам с необычайной легкостью находить площадь любого многоугольника на клетчатой бумаге с целочисленными верш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нно такие задания предлагают в В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лощадь многоугольника с целочисленными вершинами ра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количество целочисленных точек внутри многоугольника, а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а Пика очень удобна когда сложно догадаться, как разбить фигуру на удобные многоугольники или достро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43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50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55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58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61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3428640" y="2819520"/>
            <a:ext cx="1895040" cy="1044720"/>
            <a:chOff x="3428640" y="2819520"/>
            <a:chExt cx="1895040" cy="1044720"/>
          </a:xfrm>
        </p:grpSpPr>
        <p:sp>
          <p:nvSpPr>
            <p:cNvPr id="64" name=""/>
            <p:cNvSpPr/>
            <p:nvPr/>
          </p:nvSpPr>
          <p:spPr>
            <a:xfrm>
              <a:off x="4194000" y="3352680"/>
              <a:ext cx="40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58840" y="3090600"/>
              <a:ext cx="56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1760" y="33764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22840" y="31064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55920" y="2819520"/>
              <a:ext cx="230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8640" y="31050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2824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м, как применить формулу для вычисления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7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7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8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8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9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4267080" y="2590920"/>
            <a:ext cx="3733560" cy="3685320"/>
            <a:chOff x="4267080" y="2590920"/>
            <a:chExt cx="3733560" cy="3685320"/>
          </a:xfrm>
        </p:grpSpPr>
        <p:grpSp>
          <p:nvGrpSpPr>
            <p:cNvPr id="93" name=""/>
            <p:cNvGrpSpPr/>
            <p:nvPr/>
          </p:nvGrpSpPr>
          <p:grpSpPr>
            <a:xfrm>
              <a:off x="4267080" y="2590920"/>
              <a:ext cx="3733560" cy="3685320"/>
              <a:chOff x="4267080" y="2590920"/>
              <a:chExt cx="3733560" cy="3685320"/>
            </a:xfrm>
          </p:grpSpPr>
          <p:sp>
            <p:nvSpPr>
              <p:cNvPr id="94" name=""/>
              <p:cNvSpPr/>
              <p:nvPr/>
            </p:nvSpPr>
            <p:spPr>
              <a:xfrm>
                <a:off x="4267080" y="574668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67080" y="259092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67080" y="31161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3643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7080" y="41688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67080" y="4696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52239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67080" y="627624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267080" y="2590920"/>
              <a:ext cx="3707280" cy="3646440"/>
              <a:chOff x="4267080" y="2590920"/>
              <a:chExt cx="3707280" cy="3646440"/>
            </a:xfrm>
          </p:grpSpPr>
          <p:sp>
            <p:nvSpPr>
              <p:cNvPr id="103" name=""/>
              <p:cNvSpPr/>
              <p:nvPr/>
            </p:nvSpPr>
            <p:spPr>
              <a:xfrm>
                <a:off x="47984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258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572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846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426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7436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04800" y="2600640"/>
                <a:ext cx="10440" cy="363672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67080" y="2600640"/>
                <a:ext cx="1800" cy="363348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4799160" y="3117960"/>
            <a:ext cx="2647800" cy="2630520"/>
          </a:xfrm>
          <a:custGeom>
            <a:avLst/>
            <a:gdLst/>
            <a:ahLst/>
            <a:rect l="l" t="t" r="r" b="b"/>
            <a:pathLst>
              <a:path w="1668" h="1657">
                <a:moveTo>
                  <a:pt x="1326" y="0"/>
                </a:moveTo>
                <a:lnTo>
                  <a:pt x="0" y="658"/>
                </a:lnTo>
                <a:lnTo>
                  <a:pt x="664" y="1657"/>
                </a:lnTo>
                <a:lnTo>
                  <a:pt x="1668" y="663"/>
                </a:lnTo>
                <a:lnTo>
                  <a:pt x="1326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095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604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3320" y="40813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0" y="35622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6040" y="3552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6054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6040" y="46101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133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72200" y="46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4382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2760" y="354492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0" y="40798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65760" y="566424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11880" y="51562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5400" y="462276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78560" y="410220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32440" y="30481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8883600">
            <a:off x="6778440" y="303804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920" y="3962520"/>
                <a:ext cx="14475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05120" y="419112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,5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43200" y="4876920"/>
                <a:ext cx="98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533520" y="5867280"/>
            <a:ext cx="3671640" cy="691920"/>
            <a:chOff x="533520" y="5867280"/>
            <a:chExt cx="3671640" cy="691920"/>
          </a:xfrm>
        </p:grpSpPr>
        <p:grpSp>
          <p:nvGrpSpPr>
            <p:cNvPr id="136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8520" y="5916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3440" y="58719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587052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0382 0.02523 L -0.09636 0.06435 E">
                                      <p:cBhvr>
                                        <p:cTn id="8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88 0.06412 L -0.17709 0.11875 L -0.20973 0.13634 E">
                                      <p:cBhvr>
                                        <p:cTn id="9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21 0.13727 L -0.2191 0.14329 L -0.23108 0.15231 E">
                                      <p:cBhvr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8 0.15185 L -0.17917 0.25486 L -0.12657 0.36204 E">
                                      <p:cBhvr>
                                        <p:cTn id="11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0.36204 L -0.12188 0.36967 L -0.1158 0.38241 E">
                                      <p:cBhvr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120000">
                                      <p:cBhvr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28 0.38264 L -0.08195 0.34004 L -0.07118 0.32454 L -0.07223 0.32338 E">
                                      <p:cBhvr>
                                        <p:cTn id="12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32407 L -0.03889 0.28264 L -0.01112 0.24745 E">
                                      <p:cBhvr>
                                        <p:cTn id="13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2 0.24745 L 0.02777 0.19375 L 0.0434 0.17407 E">
                                      <p:cBhvr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17477 L 0.05121 0.16366 L 0.0592 0.15278 E">
                                      <p:cBhvr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4 0.15393 L 0.02638 0.06782 L 0.00694 0.01967 E">
                                      <p:cBhvr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267080" y="1447920"/>
            <a:ext cx="4647960" cy="4609800"/>
            <a:chOff x="4267080" y="1447920"/>
            <a:chExt cx="4647960" cy="4609800"/>
          </a:xfrm>
        </p:grpSpPr>
        <p:grpSp>
          <p:nvGrpSpPr>
            <p:cNvPr id="157" name=""/>
            <p:cNvGrpSpPr/>
            <p:nvPr/>
          </p:nvGrpSpPr>
          <p:grpSpPr>
            <a:xfrm>
              <a:off x="4267080" y="1447920"/>
              <a:ext cx="4631760" cy="4581000"/>
              <a:chOff x="4267080" y="1447920"/>
              <a:chExt cx="4631760" cy="4581000"/>
            </a:xfrm>
          </p:grpSpPr>
          <p:sp>
            <p:nvSpPr>
              <p:cNvPr id="158" name=""/>
              <p:cNvSpPr/>
              <p:nvPr/>
            </p:nvSpPr>
            <p:spPr>
              <a:xfrm>
                <a:off x="46882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058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270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4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834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57240" y="145944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67080" y="1459440"/>
                <a:ext cx="1080" cy="456120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3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4776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89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51040" y="146340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267080" y="1475280"/>
              <a:ext cx="4647960" cy="4582440"/>
              <a:chOff x="4267080" y="1475280"/>
              <a:chExt cx="4647960" cy="4582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267080" y="5637600"/>
                <a:ext cx="4646160" cy="252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67080" y="31377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67080" y="35539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67080" y="39711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67080" y="43876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67080" y="480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7080" y="52236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67080" y="60577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67080" y="147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7080" y="18914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67080" y="23090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67080" y="27252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80880" y="242280"/>
            <a:ext cx="8382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185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192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197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00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03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5524560" y="1890720"/>
            <a:ext cx="2959200" cy="1677960"/>
          </a:xfrm>
          <a:custGeom>
            <a:avLst/>
            <a:gdLst/>
            <a:ahLst/>
            <a:rect l="l" t="t" r="r" b="b"/>
            <a:pathLst>
              <a:path w="1864" h="1057">
                <a:moveTo>
                  <a:pt x="1862" y="0"/>
                </a:moveTo>
                <a:lnTo>
                  <a:pt x="0" y="529"/>
                </a:lnTo>
                <a:lnTo>
                  <a:pt x="1864" y="1057"/>
                </a:lnTo>
                <a:lnTo>
                  <a:pt x="522" y="525"/>
                </a:lnTo>
                <a:lnTo>
                  <a:pt x="1862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438280"/>
            <a:ext cx="79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3048120"/>
            <a:ext cx="7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828800" y="4221000"/>
                <a:ext cx="150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429000" y="4229280"/>
                <a:ext cx="585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12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13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905440" y="2666880"/>
            <a:ext cx="90720" cy="954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75520" y="227340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308628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86400" y="2666880"/>
            <a:ext cx="117360" cy="11772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407440" y="349884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307920" y="2673360"/>
            <a:ext cx="11772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458200" y="182880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9822000">
            <a:off x="8317800" y="181620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-0.13715 0.05254 L -0.28854 0.10903 E">
                                      <p:cBhvr>
                                        <p:cTn id="23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854 0.10903 L -0.30104 0.11551 L -0.3184 0.12199 E">
                                      <p:cBhvr>
                                        <p:cTn id="242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880000">
                                      <p:cBhvr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71 0.12291 L -0.2191 0.15903 L -0.01979 0.23495 E">
                                      <p:cBhvr>
                                        <p:cTn id="24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5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23495 L -0.01076 0.23819 L 0.00278 0.24328 E">
                                      <p:cBhvr>
                                        <p:cTn id="258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020000">
                                      <p:cBhvr>
                                        <p:cTn id="2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24421 L -0.09965 0.18958 L -0.20938 0.1331 E">
                                      <p:cBhvr>
                                        <p:cTn id="26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6 0.1331 L -0.21563 0.12754 L -0.23021 0.12106 E">
                                      <p:cBhvr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800000">
                                      <p:cBhvr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2 0.12014 L -0.13854 0.07477 L -0.01198 0.00926 E">
                                      <p:cBhvr>
                                        <p:cTn id="28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3520" y="228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24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24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25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5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6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4572000" y="2209680"/>
            <a:ext cx="3733560" cy="3685680"/>
            <a:chOff x="4572000" y="2209680"/>
            <a:chExt cx="3733560" cy="3685680"/>
          </a:xfrm>
        </p:grpSpPr>
        <p:grpSp>
          <p:nvGrpSpPr>
            <p:cNvPr id="263" name=""/>
            <p:cNvGrpSpPr/>
            <p:nvPr/>
          </p:nvGrpSpPr>
          <p:grpSpPr>
            <a:xfrm>
              <a:off x="4572000" y="2209680"/>
              <a:ext cx="3733560" cy="3685680"/>
              <a:chOff x="4572000" y="2209680"/>
              <a:chExt cx="3733560" cy="3685680"/>
            </a:xfrm>
          </p:grpSpPr>
          <p:sp>
            <p:nvSpPr>
              <p:cNvPr id="264" name=""/>
              <p:cNvSpPr/>
              <p:nvPr/>
            </p:nvSpPr>
            <p:spPr>
              <a:xfrm>
                <a:off x="4572000" y="536580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2000" y="220968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734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3261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72000" y="3787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72000" y="4314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2000" y="48427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2000" y="58953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572000" y="2209680"/>
              <a:ext cx="3707280" cy="3646800"/>
              <a:chOff x="4572000" y="2209680"/>
              <a:chExt cx="3707280" cy="364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1033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07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621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895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475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27928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09720" y="2219400"/>
                <a:ext cx="10440" cy="363708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0" y="2219400"/>
                <a:ext cx="1800" cy="363384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5092560" y="2733840"/>
            <a:ext cx="1600200" cy="1581120"/>
          </a:xfrm>
          <a:custGeom>
            <a:avLst/>
            <a:gdLst/>
            <a:ahLst/>
            <a:rect l="l" t="t" r="r" b="b"/>
            <a:pathLst>
              <a:path w="1008" h="996">
                <a:moveTo>
                  <a:pt x="1008" y="664"/>
                </a:moveTo>
                <a:lnTo>
                  <a:pt x="0" y="0"/>
                </a:lnTo>
                <a:lnTo>
                  <a:pt x="674" y="996"/>
                </a:lnTo>
                <a:lnTo>
                  <a:pt x="338" y="330"/>
                </a:lnTo>
                <a:lnTo>
                  <a:pt x="1008" y="664"/>
                </a:lnTo>
                <a:close/>
              </a:path>
            </a:pathLst>
          </a:cu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24382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784520" y="4237200"/>
                <a:ext cx="1015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127320" y="4237200"/>
                <a:ext cx="523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7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88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89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067360" y="269244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21440" y="42670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42000" y="374652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00880" y="3225960"/>
            <a:ext cx="7596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ивет</cp:lastModifiedBy>
  <dcterms:modified xsi:type="dcterms:W3CDTF">2012-09-08T18:28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